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DE0C-2970-47A3-8C22-4025CC092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E64C-02D3-4FFE-93DB-CC9B5C160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6EDD-5AD6-40AB-BB8C-35C1BE4D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08C-9AA7-4F70-84FF-8641410E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D60-B8EE-4117-895E-1E4D0DE7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11B8-4105-4AB2-9811-C0D50550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1978-451B-4332-AC83-C9F64EB2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FA9B-7575-4D5E-A253-739D07B1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51A-750D-4D08-8F85-5ADC7BC7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DB18-A79F-42AB-B56D-6EC97612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DAFA-1ACA-4436-B21E-70B5F00A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0FCA-B776-4EAD-827F-6219DDFB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1DC-9493-4694-9E2E-0127007D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685-E2C2-424E-9544-E7CC2B25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E307-6533-4AAF-9543-DDCDFD34D79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92CE-9B69-468F-88BE-7E3C94E4A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opaparazzi.ro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erillaverde.ro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cebook.com/people/Guerilla-Verde/100000440101230" TargetMode="External"/><Relationship Id="rId3" Type="http://schemas.openxmlformats.org/officeDocument/2006/relationships/hyperlink" Target="http://twitter.com/GuerillaVerd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lideshare.net/GuerillaVerde/guerilla-verde-iii-interpretare-chestionare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http://www.youtube.com/watch?v=wnjx6KETmi4" TargetMode="External"/><Relationship Id="rId8" Type="http://schemas.openxmlformats.org/officeDocument/2006/relationships/hyperlink" Target="file:///C:/Documents%20and%20Settings/Ileana/Local%20Settings/Temporary%20Internet%20Files/Content.Outlook/4WFIP1GS/noimpactman.typepad.com" TargetMode="External"/><Relationship Id="rId9" Type="http://schemas.openxmlformats.org/officeDocument/2006/relationships/hyperlink" Target="http://www.youtube.com/watch?v=ENcV5zeMILs" TargetMode="External"/><Relationship Id="rId10" Type="http://schemas.openxmlformats.org/officeDocument/2006/relationships/hyperlink" Target="http://www.youtube.com/watch?v=G8IozVfph7I" TargetMode="External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43080" y="928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rima caravana educationala  de film cu mesaj ecologic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din Rom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ebruarie -  mai 2013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iglaguerilla.jpg"/>
          <p:cNvPicPr/>
          <p:nvPr/>
        </p:nvPicPr>
        <p:blipFill>
          <a:blip r:embed="rId2"/>
          <a:stretch/>
        </p:blipFill>
        <p:spPr>
          <a:xfrm>
            <a:off x="2857680" y="2286000"/>
            <a:ext cx="4092480" cy="1106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oncurs foto – video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in cadrul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EcoPaparazzi este un concurs si o platforma de comunicare pentru toti cei interesati de ecolog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Concursul foto - video de "politie verde a bunului simt" se adreseaza tinerilor si nu numai. Se desfasoara in fiecare luna pe 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ecopaparazzi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. Pot participa fotografii sau filmulete care reflecta modul in care comunitatile locale respecta - sau nu - mediul inconjurator. Se poate inscrie oricine, indiferent de varsta sau localitatea de provenien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La finalul fiecarei editii a concursului, organizatorii vor depune sesizari privind una sau mai multe din problemele semnalate de participantii la concurs catre autoritatle competente. Pe site-ul www.ecopaparazzi.ro va putea fi urmarit in ce stadiu se afla respectivele sesizari – daca au primit un raspuns din partea autoritatilor, daca au fost solutionate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Platforma de comunicare a aparut ca urmare a interesului pe care l-au manifestat cei care au participat la concurs de-a lungul timpului. EcoPaparazzi.ro urmareste sa ofere tuturor celor care il acceseaza o imagine in timp real a problemelor de mediu din Roman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Obiectivul pe termen lung este construirea unei comunitati cu o voce puternica, ce va putea sanctiona relele practici si se va implica in actiuni practice pentru protectia medi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ecopaparazii aparat foto.jpg"/>
          <p:cNvPicPr/>
          <p:nvPr/>
        </p:nvPicPr>
        <p:blipFill>
          <a:blip r:embed="rId4"/>
          <a:stretch/>
        </p:blipFill>
        <p:spPr>
          <a:xfrm>
            <a:off x="5857920" y="214200"/>
            <a:ext cx="3105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icoleta Tal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anaging Dir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edia Image Facto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nicoleta.talpes@imagefactory.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el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724 314 04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h/fa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31.10. 74.17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ontact@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www.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imagefactory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Comment &amp; Like p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tweet: </a:t>
            </a: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@GuerillaVer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arteneri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stimoniale partene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ni,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dit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raseu si fil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copaparaz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71280"/>
            <a:ext cx="928800" cy="35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nceptul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i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guerillaverde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face parte dintr-un proiect mai amplu, denumit generic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ET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Better Education Through Innovation), care isi propune sa contribuie la educatia generatiei de maine prin intermediul filmulu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e prim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ravana educationala de filme cu mesaj ecologic, initiativa Media Image Factory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, agentie de comunicare specializata in dezvoltarea de proiecte social-cu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ur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Proiectul se deruleaza sub egida Ministerul Mediului, Ministeril Educatiei si  cu sprijinul primariilor oraselor gazd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NO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ipantii la proiectii care vor aduce carti/filme/articole cu teme eco vor primi bilete la tombola, unde vor avea ocazia de a castiga premii verzi (de ex. biciclete, articole sportive et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si dezvolt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ubului Guerilla V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e, format din cadre didact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logulu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unde va fi tinu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urnalul cara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ei si vor fi posturi in egala masura ale organizatorilor, dar si ale voluntarilor, ale profesorilor si ale elev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3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1357200" y="4287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arten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11"/>
          <p:cNvSpPr/>
          <p:nvPr/>
        </p:nvSpPr>
        <p:spPr>
          <a:xfrm>
            <a:off x="5105520" y="60339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entury"/>
              </a:rPr>
              <a:t>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Century"/>
              </a:rPr>
              <a:t>un proiec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PARTENERI GV.png"/>
          <p:cNvPicPr/>
          <p:nvPr/>
        </p:nvPicPr>
        <p:blipFill>
          <a:blip r:embed="rId2"/>
          <a:stretch/>
        </p:blipFill>
        <p:spPr>
          <a:xfrm>
            <a:off x="3286080" y="-4680"/>
            <a:ext cx="51436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e spun partenerii nostr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643040" y="1500120"/>
            <a:ext cx="35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roiectul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se potriveste perfect cu misiunea UPC de Responsabilitate Sociala, aceea de a investi in educatia copiilor pentru a-i ajuta sa isi construiasca un viitor mai bun. Pri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mplicarea sa in toate aspectele care privesc copiii de astazi, inclusiv constientizarea mediului inconjurator, UPC Romania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doreste sa trasforme mediul educational intr-un colt verde de care sa se poata bucura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initiativa educativa si ecologica inedita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zinta o continuare naturala a misiunii noastre, unde ne unim forţele cu partenerii nostrii de proiect pentru o cauza buna.”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riana Badin – PR &amp; Communication Manager UPC 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5315040" y="1285920"/>
            <a:ext cx="32576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Tetra Pak este lider mondial in randul companiilor furnizoare de soluţii de procesare şi ambalare a alimentelor lichide.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e asumam cu responsabilitate aceasta pozitie, generand crestere in armonie cu principiile sustenabilitatii. Motto-ul nostru “PROTEJEAZA CE E BUN” reflectă viziunea noastră de a oferi alimente sigure şi disponibile oriunde, dar si actiuni de educare in spiritul protectiei mediului. Credem ca numai deprinderea de a colecta selectiv poate contribui la o mai buna gestionare a resurselor planetei.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ne ajuta sa punem in practica motto-ul nostru, prin formarea unei bune conduite sociale in randul tinerei generatii.” 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niela Cirmaciu – Responsabil Comunicare si Mediu, Tetra Pak South Eastern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57280" y="5714640"/>
            <a:ext cx="64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isel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si 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edit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2071800" y="1071720"/>
            <a:ext cx="3095640" cy="44211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70" name="Picture 10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AFIS A3 Guerilla.jpg"/>
          <p:cNvPicPr/>
          <p:nvPr/>
        </p:nvPicPr>
        <p:blipFill>
          <a:blip r:embed="rId5"/>
          <a:stretch/>
        </p:blipFill>
        <p:spPr>
          <a:xfrm>
            <a:off x="5500800" y="1214280"/>
            <a:ext cx="3000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dupa 3 ani de la lans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1472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6 editii organizate in cei 3 ani de la lans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4. 100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de participanti - target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ineri, elevi, autoritati, presa, parten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filme proiectate, avand mesaj ecologic educ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scol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licee si  14 universitati din toata ta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de oras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.000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materiale informative distribu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52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partener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00 Facebook frie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aparitii medi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print, online, radio, T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guerillaverde.ro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aceBoo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siglaguerilla.jpg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43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logo"/>
          <p:cNvPicPr/>
          <p:nvPr/>
        </p:nvPicPr>
        <p:blipFill>
          <a:blip r:embed="rId5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43080" y="1285560"/>
            <a:ext cx="67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oad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februarie  – mai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biecti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determinarea tinerilor sa aiba initiative concrete pentru protectia mediului. Invitatia de participare la proiectiile de filme cu mesaj ecologic oferite de organizatori reprezinta punctul de pornire in acest se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fasura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iecare proiectie este insotita de dialogul dintre ONG-urile de mediu nationale si locale, care vor indruma tinerii catre un comportament ecologic corect si catre actiuni de voluntaria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ocatii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atile de invatamant mediu si superior (scoli, licee, facultati)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, sali de cinema sau sali improvizate.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cesul publicului este liber.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In cadrul editiei din 2013 accesul publicului se va face in schimbul unei doze de aluminiu si/sau a unei bateri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 parcursul celei de-a treia editii a fost efectuat un sondaj privind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comportamentul tinerilor fata de mediu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zultatele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sondaju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nt disponibil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ic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28880" y="1356840"/>
            <a:ext cx="637848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Traseu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aravana Guerilla Verde:  Bacau, Focsani, Buzau Ploiesti, Bucure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ilme :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vor fi proiectate filme care au legatura cu tipul de deseu aflat in discutie – dozele de alumini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rintre filmele difuzate in editiile anterioare, se numa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No-impact-man"/>
          <p:cNvPicPr/>
          <p:nvPr/>
        </p:nvPicPr>
        <p:blipFill>
          <a:blip r:embed="rId3"/>
          <a:stretch/>
        </p:blipFill>
        <p:spPr>
          <a:xfrm>
            <a:off x="2187720" y="3286080"/>
            <a:ext cx="1527120" cy="22287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452480" y="243000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48dd4"/>
                </a:solidFill>
                <a:latin typeface="Calibri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An Inconvenient Truth.jpg"/>
          <p:cNvPicPr/>
          <p:nvPr/>
        </p:nvPicPr>
        <p:blipFill>
          <a:blip r:embed="rId4"/>
          <a:stretch/>
        </p:blipFill>
        <p:spPr>
          <a:xfrm>
            <a:off x="4000680" y="3429000"/>
            <a:ext cx="1357200" cy="192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The 11th Hour.jpg"/>
          <p:cNvPicPr/>
          <p:nvPr/>
        </p:nvPicPr>
        <p:blipFill>
          <a:blip r:embed="rId5"/>
          <a:stretch/>
        </p:blipFill>
        <p:spPr>
          <a:xfrm>
            <a:off x="5572080" y="3357720"/>
            <a:ext cx="1285920" cy="20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ome.jpg"/>
          <p:cNvPicPr/>
          <p:nvPr/>
        </p:nvPicPr>
        <p:blipFill>
          <a:blip r:embed="rId6"/>
          <a:stretch/>
        </p:blipFill>
        <p:spPr>
          <a:xfrm>
            <a:off x="7120080" y="3357720"/>
            <a:ext cx="1380960" cy="2087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438080" y="269676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38080" y="50587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438080" y="742104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989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3952800" y="542916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An Inconvenient Th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2373480" y="550080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o Impac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5728320" y="542916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The 11th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7512840" y="5429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logo"/>
          <p:cNvPicPr/>
          <p:nvPr/>
        </p:nvPicPr>
        <p:blipFill>
          <a:blip r:embed="rId11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sp>
        <p:nvSpPr>
          <p:cNvPr id="99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nic</cp:lastModifiedBy>
  <dcterms:modified xsi:type="dcterms:W3CDTF">2013-02-04T09:46:15Z</dcterms:modified>
  <cp:revision>328</cp:revision>
  <dc:subject/>
  <dc:title>PRESENTATION  NAME</dc:title>
</cp:coreProperties>
</file>